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A63-A6D2-4D3A-8043-8A16364E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ECC-EFE0-4572-AD37-6B8C367E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20D-8953-411B-B4B7-6CEA20CE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3C2-9652-422F-9B44-484BDF3C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C628-A3B8-4995-B1EF-06240CBB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4B49-F5DC-4364-A743-F992243C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36B6-F371-4B69-9137-8949FAC3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9756-8078-47F5-A475-5D1B090A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A44A-CA52-40D0-B1BA-D79CF9FF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1D78-7392-4A16-AA8B-2EA60A33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A5AA-15F2-40E4-8419-4AE48CC5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E34D-FF47-451D-81B4-CC2EC8FA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F050-940D-48BF-B5C9-A0AD1AF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C730-14F3-4A5E-A5CB-DD1E1805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B728-54EA-4A46-B6C2-F41EAC7D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0564-8E87-46B1-AD7C-AC5A5E43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EF12-132D-4A0B-9F8F-3F2EADF5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A25-6C3C-4018-A271-0C85EA50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596-A17D-4ED0-A229-CC8BB007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064-2B8B-4321-9DF8-ACACE058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A6F2-CA64-449C-BB6D-43051270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3B5-59CA-425D-BDF3-CC64B8C2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9AE9-4AA4-48D6-BBF5-4B3C4895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8DA-853C-4A8F-8624-A669F0DD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927B-8F2D-46B8-97B4-EC606BD53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F95E-F7F6-4341-9CE4-FA7E19A51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nake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Tyler Coll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41911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o you think snakes are interesting? I think they are cool to read about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00400" y="3352680"/>
            <a:ext cx="34290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nakes lay their eggs in a hole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need to stay safe in the h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95480" y="3505320"/>
            <a:ext cx="36576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me snakes are big and some snakes can kill you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go deep in the forest so they can kill some thing to 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6019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nakes move by using their scales and they are very strong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ave very sharp teeth and they are poisonous rept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6576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y can pop out from a little hole when you’re not looking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live up to  50 years old  and can be up to 80 feet lo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56390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 hope you had a good time learning about snakes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8769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WRILAB26</cp:lastModifiedBy>
  <dcterms:modified xsi:type="dcterms:W3CDTF">2008-02-13T15:25:33Z</dcterms:modified>
  <cp:revision>3</cp:revision>
  <dc:subject/>
  <dc:title>Animal Name</dc:title>
</cp:coreProperties>
</file>